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21.jpeg" ContentType="image/jpeg"/>
  <Override PartName="/ppt/media/image20.jpeg" ContentType="image/jpeg"/>
  <Override PartName="/ppt/media/image6.png" ContentType="image/pn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91B3-1BC6-4DC0-880C-0D2A647CC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AC96-B447-4CD8-B7AA-877672EBE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C4DE-DD80-4052-859A-86A55DA29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EB06-53D2-4BF6-8CE0-2F8CF6359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B9470-A98F-426D-9E8C-6C70D2FAA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685EB-DD1A-49B6-A747-F0FDC9C23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9350E-1079-467B-A80C-C6179CA41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D9968-1E8E-48C0-A606-3777B941E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A2E30-D151-4DA2-A9B2-B4350B758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9EC05-FDF1-41A1-B930-0E3D7F85F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AEB38-21A5-475F-9813-292CD40A9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2AEE-A8CA-49CE-A55B-3E489E6E2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8A6C5-D0CD-47DC-B247-71ED95EE1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28C94-6E7C-4414-A3B3-25D210A2E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3A024-2C5D-46C5-8B1C-C218449F3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758B0-F0FC-438D-8833-3A9E5C04C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D5B37-9E54-447F-9931-C2C3F4C9F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1B74-2B44-4F48-80F2-FB6510B27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1023-557D-4FE9-B52C-BEDEEB78A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B332-F393-47B0-943A-B8789D4E8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53C0-0962-4D70-98BF-FDC9066FB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22C8-223F-46C5-971B-9E1359DD5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2E60-A672-4B3E-9FCA-8E3F15531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FF4E-5C31-42C0-B1CB-4FFFB5FE6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9E8CB-3E3F-4F2C-995B-718B6317A06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37771-D268-4115-BFC5-23982859B7F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trainweb.org/girr/tips/tips6/tool_tips/no_1_phillips_small.jpg&amp;imgrefurl=http://www.trainweb.org/girr/tips/tips6/tool_tips/basic.html&amp;usg=__sqH9lJM1DWnMmAzYw5C9lJePKO8=&amp;h=273&amp;w=396&amp;sz=17&amp;hl=en&amp;start=14&amp;um=1&amp;tbnid=uaK6UNH-LM__wM:&amp;tbnh=85&amp;tbnw=124&amp;prev=/images%3Fq%3DPhillips%2Bscrewdrivers%26hl%3Den%26safe%3Dactive%26sa%3DN%26um%3D1" TargetMode="External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hardwarestore.com/pop-print/larger-image.aspx?prodNo=57153" TargetMode="External"/><Relationship Id="rId2" Type="http://schemas.openxmlformats.org/officeDocument/2006/relationships/image" Target="../media/image18.jpeg"/><Relationship Id="rId3" Type="http://schemas.openxmlformats.org/officeDocument/2006/relationships/hyperlink" Target="http://www.amazon.com/gp/product/images/B0000950RN/ref=dp_image_0?ie=UTF8&amp;n=228013&amp;s=hi" TargetMode="External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amazon.com/KR-Tools-12212-8-Inch-Pliers/dp/B001G614CU/ref=sr_1_1?ie=UTF8&amp;s=hi&amp;qid=1242406952&amp;sr=1-1" TargetMode="External"/><Relationship Id="rId2" Type="http://schemas.openxmlformats.org/officeDocument/2006/relationships/image" Target="../media/image20.jpeg"/><Relationship Id="rId3" Type="http://schemas.openxmlformats.org/officeDocument/2006/relationships/hyperlink" Target="http://www.google.com/imgres?imgurl=http://zo-d.com/stuff/images/channel-lock-pliers-s.jpg&amp;imgrefurl=http://zo-d.com/stuff/tool-reviews.html&amp;h=199&amp;w=480&amp;sz=13&amp;tbnid=kYHSGoBHkT9T4M::&amp;tbnh=53&amp;tbnw=129&amp;prev=/images%3Fq%3Dchannel%2Block%2Bpliers&amp;hl=en&amp;usg=__HuZrOQ5CRzuo2HRSqzEjNsJqOr8=&amp;ei=rKANSr3zEJiNtgfhmPT4Bw&amp;sa=X&amp;oi=image_result&amp;resnum=4&amp;ct=image" TargetMode="External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cdn.dickblick.com/items/330/83/33083-1010-3ww-l.jpg&amp;imgrefurl=http://www.dickblick.com/zz330/83/&amp;h=374&amp;w=600&amp;sz=21&amp;tbnid=JMYuPXr4GS9oLM::&amp;tbnh=84&amp;tbnw=135&amp;prev=/images%3Fq%3Dlong%2Bnose%2Bpliers&amp;hl=en&amp;usg=__Tsjr6_U3Gw9vJz6pfk3wiv49W-U=&amp;ei=5qENSrniD4Kktge5wPmBCA&amp;sa=X&amp;oi=image_result&amp;resnum=9&amp;ct=image" TargetMode="External"/><Relationship Id="rId2" Type="http://schemas.openxmlformats.org/officeDocument/2006/relationships/image" Target="../media/image22.jpeg"/><Relationship Id="rId3" Type="http://schemas.openxmlformats.org/officeDocument/2006/relationships/hyperlink" Target="http://www.google.com/imgres?imgurl=http://www.customtoolsupply.com/images/326.jpg&amp;imgrefurl=http://www.customtoolsupply.com/catalog.php%3Fmanufacturers_id%3D42&amp;h=360&amp;w=360&amp;sz=44&amp;tbnid=Ma2FZOEBq1D_mM::&amp;tbnh=121&amp;tbnw=121&amp;prev=/images%3Fq%3Dlong%2Bnose%2Bpliers&amp;hl=en&amp;usg=__0Njf35Wz6rFJvNKVEWkjCJ9PxzY=&amp;ei=5qENSrniD4Kktge5wPmBCA&amp;sa=X&amp;oi=image_result&amp;resnum=10&amp;ct=image" TargetMode="External"/><Relationship Id="rId4" Type="http://schemas.openxmlformats.org/officeDocument/2006/relationships/image" Target="../media/image23.jpeg"/><Relationship Id="rId5" Type="http://schemas.openxmlformats.org/officeDocument/2006/relationships/hyperlink" Target="http://images.google.com/imgres?imgurl=http://z.about.com/d/familycrafts/1/0/i/o/1/ct2-41_needlenose.jpg&amp;imgrefurl=http://familycrafts.about.com/od/craftstechniques101/ig/Crafters-Toolbox-Beyond-Basics/Needle-Nose-Pliers.htm&amp;usg=__UttmAgeokmoMeAZSS94L6rqOzn0=&amp;h=500&amp;w=321&amp;sz=142&amp;hl=en&amp;start=6&amp;um=1&amp;tbnid=zx6tYLl2iBVSHM:&amp;tbnh=130&amp;tbnw=83&amp;prev=/images%3Fq%3Dneedle%2Bnose%2Bpliers%26hl%3Den%26safe%3Dactive%26sa%3DN%26um%3D1" TargetMode="External"/><Relationship Id="rId6" Type="http://schemas.openxmlformats.org/officeDocument/2006/relationships/image" Target="../media/image24.jpeg"/><Relationship Id="rId7" Type="http://schemas.openxmlformats.org/officeDocument/2006/relationships/hyperlink" Target="http://images.google.com/imgres?imgurl=http://www.hyperclaw.com/pic/products/needle-bent-nose-plier-1-L.jpg&amp;imgrefurl=http://www.hyperclaw.com/long_nose.shtml&amp;usg=__ezpLQranFsH5s3aGWoronW2cCFk=&amp;h=1038&amp;w=900&amp;sz=80&amp;hl=en&amp;start=8&amp;um=1&amp;tbnid=fO-yz1ZY95du7M:&amp;tbnh=150&amp;tbnw=130&amp;prev=/images%3Fq%3Dneedle%2Bnose%2Bpliers%26hl%3Den%26safe%3Dactive%26sa%3DN%26um%3D1" TargetMode="External"/><Relationship Id="rId8" Type="http://schemas.openxmlformats.org/officeDocument/2006/relationships/image" Target="../media/image25.jpeg"/><Relationship Id="rId9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www.northerntool.com/images/product/images/258526_lg.jpg&amp;imgrefurl=http://www.northerntool.com/webapp/wcs/stores/servlet/product_6970_200358003_200358003&amp;h=400&amp;w=400&amp;sz=10&amp;tbnid=EOT4K7b7EOtP3M::&amp;tbnh=124&amp;tbnw=124&amp;prev=/images%3Fq%3Dside%2Bcutting%2Bpliers&amp;hl=en&amp;usg=__83wFfe0hBx8QEJBZn5rbcaHlLsI=&amp;ei=UKINSrSZI9WEtwfa4KiCCA&amp;sa=X&amp;oi=image_result&amp;resnum=2&amp;ct=image" TargetMode="External"/><Relationship Id="rId2" Type="http://schemas.openxmlformats.org/officeDocument/2006/relationships/image" Target="../media/image26.jpeg"/><Relationship Id="rId3" Type="http://schemas.openxmlformats.org/officeDocument/2006/relationships/hyperlink" Target="http://www.google.com/imgres?imgurl=http://news.thomasnet.com/images/large/011/11812.jpg&amp;imgrefurl=http://news.thomasnet.com/fullstory/11812&amp;h=406&amp;w=1488&amp;sz=200&amp;tbnid=LdIepCisJcI_GM::&amp;tbnh=41&amp;tbnw=150&amp;prev=/images%3Fq%3Dside%2Bcutting%2Bpliers&amp;hl=en&amp;usg=__-6wakILOCQzeMG1k17_Gow8jJLQ=&amp;ei=UKINSrSZI9WEtwfa4KiCCA&amp;sa=X&amp;oi=image_result&amp;resnum=4&amp;ct=image" TargetMode="External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louisvilleladder.com/product_info.php?cPath=21_35&amp;products_id=81&amp;osCsid=pcam5estfc42i3t09bkiu71jg6" TargetMode="External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amazon.com/Brands-Inc-Mean-Green-Cleaner/dp/B0014CNFCI/ref=sr_1_1?ie=UTF8&amp;s=hpc&amp;qid=1242402633&amp;sr=8-1" TargetMode="External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hyperlink" Target="http://www.lysol.com/products/all-purpose-cleaners/all-purpose-pour/" TargetMode="External"/><Relationship Id="rId7" Type="http://schemas.openxmlformats.org/officeDocument/2006/relationships/image" Target="../media/image5.jpe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www.michiganrecycles.org/graphics/EnergyStar4C.gif&amp;imgrefurl=http://moms-er.com/celebrate-the-entire-month-of-april/&amp;h=456&amp;w=791&amp;sz=63&amp;tbnid=EW9D-rZXJKzBbM::&amp;tbnh=82&amp;tbnw=143&amp;prev=/images%3Fq%3Denergy%2Bstar%2Blabel&amp;hl=en&amp;usg=__L9ELDdCGZGRGWwW0SnuqQNaotyo=&amp;ei=PZYNStagAZeqtgecz5iFCA&amp;sa=X&amp;oi=image_result&amp;resnum=4&amp;ct=image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www.google.com/imgres?imgurl=http://media.canada.com/8975269b-0529-4353-a446-596d133824d2/cnsphoto-young-energystar.jpg&amp;imgrefurl=http://www.canada.com/vancouversun/news/story.html%3Fid%3Dd078b496-9138-4531-9598-7bc2574f94e9&amp;h=375&amp;w=375&amp;sz=57&amp;tbnid=ivPiPENudV5f_M::&amp;tbnh=122&amp;tbnw=122&amp;prev=/images%3Fq%3Denergy%2Bstar%2Blabel&amp;hl=en&amp;usg=__8ct5ol6LLIhkJBR-aTf11_geVIk=&amp;ei=PZYNStagAZeqtgecz5iFCA&amp;sa=X&amp;oi=image_result&amp;resnum=3&amp;ct=image" TargetMode="External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www.drukhier.nl/demo/components/com_virtuemart/shop_image/product/Hammer_4926f26d96402.jpg&amp;imgrefurl=http://www.drukhier.nl/demo/&amp;h=378&amp;w=400&amp;sz=66&amp;tbnid=Y6byYxkPI4eqTM::&amp;tbnh=117&amp;tbnw=124&amp;prev=/images%3Fq%3Dhammer&amp;hl=en&amp;usg=__svmOJwTGnn4X4uhN4WzATCeAtgM=&amp;ei=75YNSsPmDdG9twfJ3tGbCA&amp;sa=X&amp;oi=image_result&amp;resnum=4&amp;ct=image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stanleytools.com/default.asp?CATEGORY=STANDARD+SCREWDRIVERS&amp;TYPE=PRODUCT&amp;PARTNUMBER=62-552&amp;SDesc=FatMax%26%23174%3B+1%2F4%26%2334%3B+Standard+Stubby+Screwdriver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home.howstuffworks.com/search.php?terms=hand+tools+-autopsies+-garnishing+-grill&amp;media=image&amp;page=2" TargetMode="External"/><Relationship Id="rId4" Type="http://schemas.openxmlformats.org/officeDocument/2006/relationships/image" Target="../media/image11.jpeg"/><Relationship Id="rId5" Type="http://schemas.openxmlformats.org/officeDocument/2006/relationships/hyperlink" Target="http://images.google.com/imgres?imgurl=http://www.mnpctech.3dpixelnet.com/picture_library/1redbaron.mx518.logitech8.jpg&amp;imgrefurl=http://forums.amd.com/forum/messageview.cfm%3Fcatid%3D17%26threadid%3D91109&amp;usg=__altY8rIMjLw-XpTTtzAqIn188N0=&amp;h=432&amp;w=576&amp;sz=97&amp;hl=en&amp;start=18&amp;um=1&amp;tbnid=pBVKuH0c1XxHzM:&amp;tbnh=101&amp;tbnw=134&amp;prev=/images%3Fq%3Dflat%2Bhead%2Bscrewdriver%26hl%3Den%26safe%3Dactive%26sa%3DG%26um%3D1" TargetMode="External"/><Relationship Id="rId6" Type="http://schemas.openxmlformats.org/officeDocument/2006/relationships/image" Target="../media/image12.jpeg"/><Relationship Id="rId7" Type="http://schemas.openxmlformats.org/officeDocument/2006/relationships/hyperlink" Target="http://images.google.com/imgres?imgurl=http://comps.fotosearch.com/comp/UNC/UNC311/flathead-screwdriver-tool_~u28379035.jpg&amp;imgrefurl=http://www.fotosearch.com/UNC311/u28379035/&amp;usg=__1ka_fGlNJ1oX5tShQiEt6hyo1aI=&amp;h=320&amp;w=300&amp;sz=15&amp;hl=en&amp;start=22&amp;um=1&amp;tbnid=uc9C4PmXFDEXiM:&amp;tbnh=118&amp;tbnw=111&amp;prev=/images%3Fq%3Dflat%2Bhead%2Bscrewdriver%26ndsp%3D20%26hl%3Den%26safe%3Dactive%26sa%3DN%26start%3D20%26um%3D1" TargetMode="External"/><Relationship Id="rId8" Type="http://schemas.openxmlformats.org/officeDocument/2006/relationships/image" Target="../media/image13.jpeg"/><Relationship Id="rId9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9.01 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ic Cleaning Tools and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6600"/>
                </a:solidFill>
                <a:latin typeface="Arial"/>
              </a:rPr>
              <a:t>Phillips head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fits a slot shaped with a X or T shape. Used to assemble furniture, bookcases, cabinets, etc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43000" y="3505320"/>
            <a:ext cx="1828800" cy="13428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5334120" y="3733920"/>
            <a:ext cx="190476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djustable Wrench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ed to tighten and loosen nuts and bol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es in many different size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the nut is hard to turn, apply a lubricant such as WD4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8 inch  Automatic Adjustable Wrench"/>
          <p:cNvPicPr/>
          <p:nvPr/>
        </p:nvPicPr>
        <p:blipFill>
          <a:blip r:embed="rId1"/>
          <a:stretch/>
        </p:blipFill>
        <p:spPr>
          <a:xfrm>
            <a:off x="4038480" y="3505320"/>
            <a:ext cx="3353040" cy="335268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 "/>
          <p:cNvPicPr/>
          <p:nvPr/>
        </p:nvPicPr>
        <p:blipFill>
          <a:blip r:embed="rId2"/>
          <a:stretch/>
        </p:blipFill>
        <p:spPr>
          <a:xfrm>
            <a:off x="1066680" y="4114800"/>
            <a:ext cx="23623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teel Tape Measur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ed to measure areas larger than 3 feet. Usually retractable and most have thumb lock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n have standard or metric measurement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Lufkin Steel Tape Measure, 50'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14400" y="411480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Stanley 30-485 12-by-1/2-Inch Tape Measur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91320" y="4191120"/>
            <a:ext cx="26668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6600"/>
                </a:solidFill>
                <a:latin typeface="Arial"/>
              </a:rPr>
              <a:t>Pliers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: used for gripping &amp; cutting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6600"/>
                </a:solidFill>
                <a:latin typeface="Arial"/>
              </a:rPr>
              <a:t>Slip joint plier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Moves to fit nut and bol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6600"/>
                </a:solidFill>
                <a:latin typeface="Arial"/>
              </a:rPr>
              <a:t>Channel lock plier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used for plumbing problems (loosen and tighten nuts/bolts)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Product Detail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191120" y="22096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http://zo-d.com/stuff/tool-reviews.html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33520" y="5562720"/>
            <a:ext cx="182880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6600"/>
                </a:solidFill>
                <a:latin typeface="Arial"/>
              </a:rPr>
              <a:t>Long nose plier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used for bending wires and positioning components in small are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cellent for floral arranging and crafts als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http://www.dickblick.com/zz330/83/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43000" y="4419720"/>
            <a:ext cx="1219320" cy="121896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http://www.customtoolsupply.com/catalog.php?manufacturers_id=4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553080" y="4648320"/>
            <a:ext cx="1447920" cy="11430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352680" y="4495680"/>
            <a:ext cx="790560" cy="123840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029200" y="4114800"/>
            <a:ext cx="123840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6600"/>
                </a:solidFill>
                <a:latin typeface="Arial"/>
              </a:rPr>
              <a:t>Side-cutting plier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used to cut wire and to strip the insulation and coating off electrical wi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http://www.northerntool.com/webapp/wcs/stores/servlet/product_6970_200358003_20035800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38080" y="3809880"/>
            <a:ext cx="1828800" cy="17528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http://news.thomasnet.com/fullstory/1181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733920" y="3886200"/>
            <a:ext cx="203832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Ladder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ed to reach high places in order to reach items, do repairs or paint interiors and exterior walls. Can be small (2-3 steps) up to 16’ or more. Made of aluminum, steel, fibergla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AS2100 Serie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480" y="4419720"/>
            <a:ext cx="1828800" cy="19620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3"/>
          <a:stretch/>
        </p:blipFill>
        <p:spPr>
          <a:xfrm>
            <a:off x="6324480" y="4495680"/>
            <a:ext cx="2190960" cy="181944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4"/>
          <a:stretch/>
        </p:blipFill>
        <p:spPr>
          <a:xfrm>
            <a:off x="3581280" y="4527720"/>
            <a:ext cx="1905120" cy="18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nstallation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ictures/mirrors: Per Danny Lipfo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enter of the picture should be at eye level, approximately 60” from the floo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ve at least a 3” to 6” gap between the top of a sofa and the bottom of the picture frame, and 4” to 8” inches from a table top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 the Stud and use hardware that is compatible with the weight of the picture or mi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481640" y="31078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800" y="-3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800" y="-3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586728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ome Deco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sy changes to update or change déc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 Paint a roo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. Rearrange furnit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. Add or take away accessor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4. Reupholster furniture or add slip cov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. Change window treatm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6. Replace flooring, add rug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eaning Tools</a:t>
            </a:r>
            <a:br>
              <a:rPr sz="3900"/>
            </a:b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main Types of cleaning too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 Tools that remove loose dirt and du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st mop, broom, vacuum cleaner, dusting clo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. Tools that remove soil stuck to surfa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onges, pails, wet mop, toilet bowl brush, stepladder/st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2362320" y="257040"/>
            <a:ext cx="4695840" cy="660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eaning Products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asic Cleaning products that every home should hav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lass clean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rease cutting liqui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ild abrasive powd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00"/>
                </a:solidFill>
                <a:latin typeface="Arial"/>
              </a:rPr>
              <a:t>Disinfectan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cleaning agent that destroys bacter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410080" y="2286000"/>
            <a:ext cx="2971800" cy="11397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Product Details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086600" y="5029200"/>
            <a:ext cx="1600200" cy="18288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990720" y="5181480"/>
            <a:ext cx="1904760" cy="16765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Clorox 35300CT 409 Formula Cleaner, 128 oz, 4/CT, Pump Bottle, COX35300CT, COX 35300CT"/>
          <p:cNvPicPr/>
          <p:nvPr/>
        </p:nvPicPr>
        <p:blipFill>
          <a:blip r:embed="rId5"/>
          <a:stretch/>
        </p:blipFill>
        <p:spPr>
          <a:xfrm>
            <a:off x="5410080" y="5095800"/>
            <a:ext cx="1762200" cy="17622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ALL PURPOSE CLEANERS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505320" y="4800600"/>
            <a:ext cx="1447560" cy="17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Basic Cleaning Rul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. Check to see if your products can be used for more than one purpose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. Check labels to see if toxic, poisonous, or flamm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3.  Check to see if product will harm a surface. Not all products are safe for all surf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4. Follow directions of the produ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en-US" sz="2600" spc="-1" strike="noStrike">
                <a:solidFill>
                  <a:srgbClr val="ff6600"/>
                </a:solidFill>
                <a:latin typeface="Arial"/>
              </a:rPr>
              <a:t>NEVER MIX PRODU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6. Store away from children and pe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7. Wear protective glov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eaning Schedule for time management and peopl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6600"/>
                </a:solidFill>
                <a:latin typeface="Arial"/>
              </a:rPr>
              <a:t>Dail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make bed, wash dishes, wipe counters, sweep flo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6600"/>
                </a:solidFill>
                <a:latin typeface="Arial"/>
              </a:rPr>
              <a:t>Weekl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change bed linens, laundry, clean bathroom, vacuum/dust, mop kitchen/bat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6600"/>
                </a:solidFill>
                <a:latin typeface="Arial"/>
              </a:rPr>
              <a:t>Monthl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clean refrigerator, range, kitchen shelves, vacuum furniture and drapes/blin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6600"/>
                </a:solidFill>
                <a:latin typeface="Arial"/>
              </a:rPr>
              <a:t>Semi-annual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clean closets, wash all bedding, wash walls, clean baseboar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aving Energy in the Hom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ergy Guide: label that states the yearly average cost to operate an applia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EnergyGuide label shows how a purchaser can compare energy use of product with other similar models, given estimated yearly energy costs."/>
          <p:cNvPicPr/>
          <p:nvPr/>
        </p:nvPicPr>
        <p:blipFill>
          <a:blip r:embed="rId1"/>
          <a:stretch/>
        </p:blipFill>
        <p:spPr>
          <a:xfrm>
            <a:off x="380880" y="2819520"/>
            <a:ext cx="338616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ergy Star Label: product is better for the environment because it LESS energy than standard mode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http://moms-er.com/celebrate-the-entire-month-of-april/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" y="3279600"/>
            <a:ext cx="2286000" cy="13114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http://www.canada.com/vancouversun/news/story.html?id=d078b496-9138-4531-9598-7bc2574f94e9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172200" y="3886200"/>
            <a:ext cx="2133720" cy="16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pair Tools for the Hom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ammer:  has a curved claw, used to drive and pull nail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http://www.drukhier.nl/demo/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95680" y="2286000"/>
            <a:ext cx="125748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crewdrivers: used to drive and remove screw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6600"/>
                </a:solidFill>
                <a:latin typeface="Arial"/>
              </a:rPr>
              <a:t>Standard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flat head, ranges from very small to lar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91320" y="2666880"/>
            <a:ext cx="2095560" cy="129564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Screwdriver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09480" y="2852640"/>
            <a:ext cx="3657600" cy="261468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867280" y="4191120"/>
            <a:ext cx="1981440" cy="182880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971800" y="4952880"/>
            <a:ext cx="151452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5T15:40:11Z</dcterms:created>
  <dc:creator>s.brooks</dc:creator>
  <dc:description/>
  <dc:language>en-US</dc:language>
  <cp:lastModifiedBy>s.brooks</cp:lastModifiedBy>
  <dcterms:modified xsi:type="dcterms:W3CDTF">2009-05-15T17:58:09Z</dcterms:modified>
  <cp:revision>7</cp:revision>
  <dc:subject/>
  <dc:title>9.01 </dc:title>
</cp:coreProperties>
</file>